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7A2-3653-4917-B803-15D7F87F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0C1-AE7A-4596-9B87-46394E72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8FD-A5FD-4223-8AB9-2DD8D9E2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3E85-E8BC-4645-8F77-479D671E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B46C-C73A-4371-AEC5-6C9808FE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1997-F3B6-478F-B594-0BE0315C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11AF-7A8F-4DB7-A197-ADF32873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FBA0-D62A-4D77-BE8E-CD4CFB8F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CE12-8148-4688-B2A0-4BCDD17B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F329-A295-4572-871D-F906FDC9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27D3-7C8C-4E18-8F72-1433865B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EAB7-D53C-463C-A563-E25874F5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BEE5-B9C1-4F29-9A18-BAD8611C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BD6C-27C0-434A-B858-F3DBD0CE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888A-4C79-4EBC-8651-02F1ABEE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75C4-1C23-4E79-B09C-CAB63055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375F-26D4-438A-9472-16FDDE78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B01C-D81E-4DDC-8E44-CFEE822B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DB2-D423-4BC5-93C8-95D311D3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A89-01A2-48FA-8C34-2D89E6F4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64D-C66D-4CB0-8AE5-210B8ED0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FFF-B0DA-4FB3-BF67-5409E95E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6AD-79AE-4DE7-8F67-5EFEB2CF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54F-D5DD-4F28-915A-15A22ACB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3666-B3F9-4272-8E9E-CCB2FDD37A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ACBA-7F4F-47C7-B2E1-6BE5A2EB0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16EB-AA71-4578-B36A-7642563848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A3CB-4B6C-4056-AA8A-011FD54ED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ROPOSED FTT DIRECTIV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M(2011) 594 of 28.09.2011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890120" y="26028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2193A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BE79-53D6-48CB-81AB-D5A27B099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ACT EXPECTED BY THE COMMISSION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48392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venue estimation: ≈ €55 bn annually, depending on market reactions and effectiveness of tax colle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Market reaction / functioning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securities markets is assumed to decline by up to 20%, namely with respect to the segment of HF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derivatives markets is expected to decline by up to 90% in some market segments, especially in the market segment of HFT and highly-leverag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act on financial centre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ortant decline in the (inflated) turnover in some market segments (namely HFT and highly-leveraged product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Need for adjusting business models to the new tax environ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mall impact on employ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0044-DF79-48DB-85BB-CE19BF602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HE COMMISSION’S MOTIVATION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Ensure that the financial sector makes a fair contribution at a time of fiscal consolidation in the Member States, assuming that the financial sector is currently under-taxed vis-à-vis other sector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trengthen the EU Single Market by setting up a harmonized framework to tax financial transaction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help reduce competitive distortion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deter from excessive risk-taking activitie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complement regulatory measures aimed at prevent future crises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promote common rules for the introduction of a FTT at global level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286C-C593-4860-A604-6E3E57406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ESIDENCE PRINCIPLE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7280" y="1341000"/>
            <a:ext cx="867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least one of the parties to transaction needs to be “established in a MS”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“financial institution” “established in MS” conce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s party to the transaction acting either for its own accou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for the account of another pers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is acting in the name of a party to th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s a rule “establishment of financial institution” determines which MS has to tax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financial institution is not considered to be established in a MS in case it proves that there is no link between the economic substance of the transaction and the territory of any M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C30E-8032-4FD2-9D42-CA3F38B62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COLLECTION &amp; ADMINISTRATION </a:t>
            </a:r>
            <a:br>
              <a:rPr sz="3200"/>
            </a:b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OF THE TAX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Focus on Financial Institutions, broadly defined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ax chargeable event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= Execution of a financial transaction involving an EU Financial Institu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Liability of Financial Institutions for the payment of the FTT to tax authorit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the moment of the tax chargeable event in case of electronic financial transac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within three working days from chargeability in all other cas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Joint liability of each party to the transaction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96AA-FA29-4021-89B0-C2240B3B4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SCOPE OF THE TAX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Broad based approach in terms of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struments 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actions (both organised markets and OTC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ference to relevant regulatory EU framework used as much as possible for definition of financial instruments and “Financial transactions”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urchase and sale of transferable securities, money-market instruments, units and shares in collective investment undertakings, structur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ecurities lending and borrowing and repo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nclusion/Modification and trading of derivatives agreemen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fers of financial instruments between group entities (other than purchase and sale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derivatives agreement resulting in a sale or purchase of a financial instrument (physical settlement) triggers additional taxabl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41F3-B500-473E-BE5F-7A385504C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OUT OF SCOP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SMEs and Private Household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nterprise borrowing/lending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Mortgage loan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onsumer credi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nsurance contrac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ayment transactions, etc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large and international busines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ot currency transactions (as opposed to currency derivative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rimary market transactions for raising capital through the issuing of shares and bonds (except for shares and units of collective investment undertaking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public borrow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ssuing of government bond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monetary policy and post-trad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Transactions with ECB, Central Banks of Member Stat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FSF (not considered to be a financial institution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entral Counter Parties (idem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388D-7DF5-4017-9C5A-0792E7384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AXABLE BAS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Financial transactions other than those related to 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or owed for the transfer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Market price (= at arm’s length price) in case :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for transfer is lower than market price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Or transfers of financial instruments between entities of a group in case they do not constitute a « purchase or a sale »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Notional amount of the derivatives agreement (underlying notional or face amount that is used to calculate payments made on a given derivatives agreement)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Common provision on exchange rate to be applied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Taxing gross transactions before netting and settlement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4620-56BE-4593-82DE-D812DC8F8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ATE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nancial instruments other than derivatives and derivatives are different in nature/economic value/taxable amount =&gt; rates to be differentiated between two categor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Level of rates defined in the Proposal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would guarantee a part of revenue for the EU budget and a part for the Member States’ budge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sufficiently high for harmonisation objectiv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low enough to avoid excessive market reactions and reloc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ax rates: 0,01% for derivatives and 0,1% for other transactions (for each taxable party to the transact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haracter of the rate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inimum r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ne single rate (for each of the two product group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6137-A560-4FB6-9CC8-0DDEF46C6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LEMENTATION CALENDAR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oposed implementation as of 1 January 2014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view clause: after five years, first time by 31/12/ 2016, report on application of FTT, possibly with a modification proposa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B0DD-20A2-4BE4-8999-C7743F986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25:09Z</dcterms:created>
  <dc:creator>Mireille Thiery</dc:creator>
  <dc:description/>
  <dc:language>en-US</dc:language>
  <cp:lastModifiedBy>Mireille Thiery</cp:lastModifiedBy>
  <dcterms:modified xsi:type="dcterms:W3CDTF">2011-12-08T09:57:40Z</dcterms:modified>
  <cp:revision>44</cp:revision>
  <dc:subject/>
  <dc:title>Slide 1</dc:title>
</cp:coreProperties>
</file>